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F5E-D22C-47F0-BF9C-7E83A272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CE9-EAE4-4CE7-8407-9EE69276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DF2-20B9-4270-967F-CD031F92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55E-18C6-42A6-B19E-5CFD58C8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D356-3575-4826-B56E-77572AFB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6777-5783-419B-A86F-5E1352A9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2578-1FA4-4342-A117-CA0BB6F1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D067-AC09-4C57-B12C-5702F71B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A8C4-1740-4C38-B504-00C825C6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67D4-E4E2-410C-BA17-2A1F6FDD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1047-6BA1-48AB-99AE-F2F946C0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E6DB-DA99-47CE-949D-81BFFA87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86CA-D274-4A19-B93B-7684E571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07B3-D375-4C5C-AD23-16432F52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775F-57F4-42D7-9398-3A989D02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111C-D8A1-46CE-B236-455674E3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BA3B-45E6-4B9C-BB98-6FECE5CE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2AD-C977-452B-844D-04459CC7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8F3-0896-41A3-8625-CC4FF508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9A0-6B5A-469B-9912-F886A746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005-E45E-4C9F-AFC7-71E9595E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8C4-75AD-46E2-BD67-DFEBF231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8EC-7743-49DB-A1CA-191E3D85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98E-3ED7-4462-BCBD-72085E3E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7737-D8B1-457B-94D5-BCE35BC853B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1F0D-3B9E-4D29-8536-8C70E51778E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36000" y="5589720"/>
            <a:ext cx="172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7-ZIP </a:t>
            </a:r>
            <a:r>
              <a:rPr b="0" lang="zh-TW" sz="20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教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02240" y="60930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Notepad++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48680" y="3292560"/>
            <a:ext cx="164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文化大學資管系碩士學分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42760" y="3782160"/>
            <a:ext cx="23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數位教材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(Freeware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36960" y="4522680"/>
            <a:ext cx="12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指導老師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鄒景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36960" y="4954680"/>
            <a:ext cx="12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學生姓名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劉正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183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7-ZIP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安裝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5589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回目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6056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下一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38400" y="1295280"/>
            <a:ext cx="6667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183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7-ZIP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使用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6000" y="5589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回目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38400" y="1295280"/>
            <a:ext cx="6667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22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Notepad++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安裝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5589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回目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6000" y="6056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下一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38400" y="1295280"/>
            <a:ext cx="6667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22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Notepad++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使用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0" y="5589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回目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38400" y="1295280"/>
            <a:ext cx="6667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02:31:19Z</dcterms:created>
  <dc:creator>DAXIONG</dc:creator>
  <dc:description/>
  <dc:language>en-US</dc:language>
  <cp:lastModifiedBy>DAXIONG</cp:lastModifiedBy>
  <dcterms:modified xsi:type="dcterms:W3CDTF">2011-01-22T03:21:54Z</dcterms:modified>
  <cp:revision>11</cp:revision>
  <dc:subject/>
  <dc:title>投影片 1</dc:title>
</cp:coreProperties>
</file>